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785-4FC4-4ADB-A171-E80814D6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5D8-FBFC-441E-BF94-A866D6D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915-DF52-47B6-BE51-C4C0BD8F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082-E02B-424C-9295-3A6C65D4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29A-2CA6-4598-90FB-E8D06CF7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F2F-764F-4A96-B792-48AAC2D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72D-6360-46D6-8DBB-DA33C5B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FA0-E363-48CF-81FE-7915421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9AA-9052-43FB-93E8-B75C300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D78-1033-4D8F-9036-A5803E5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76C-9828-4FF1-BC4C-BF0629D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AF0-694D-47C6-AB81-5129A1F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5526-F3AE-4648-8EC3-DEBCD20AD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561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Cuál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981000"/>
            <a:ext cx="57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981000"/>
            <a:ext cx="57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tu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98100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1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favorit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810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referid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1655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6516360" y="1555920"/>
            <a:ext cx="1655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7:44Z</dcterms:created>
  <dc:creator>Helen</dc:creator>
  <dc:description/>
  <dc:language>en-US</dc:language>
  <cp:lastModifiedBy>Helen</cp:lastModifiedBy>
  <dcterms:modified xsi:type="dcterms:W3CDTF">2009-03-02T17:29:32Z</dcterms:modified>
  <cp:revision>2</cp:revision>
  <dc:subject/>
  <dc:title>Slide 1</dc:title>
</cp:coreProperties>
</file>